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75E4-D9C5-4ECE-ADF7-EB09C848FC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5CB9-D45B-4B95-8303-F94B0EBE5E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991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4053600"/>
            <a:ext cx="7991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405360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79360" y="405360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6160" y="206028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8320" y="206028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405360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86160" y="405360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8320" y="405360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405360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9360" y="405360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4053600"/>
            <a:ext cx="7991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hlavicka"/>
          <p:cNvPicPr/>
          <p:nvPr/>
        </p:nvPicPr>
        <p:blipFill>
          <a:blip r:embed="rId2"/>
          <a:stretch/>
        </p:blipFill>
        <p:spPr>
          <a:xfrm>
            <a:off x="0" y="0"/>
            <a:ext cx="9144000" cy="12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06472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ff6600"/>
                </a:solidFill>
                <a:latin typeface="Arial Narrow"/>
              </a:rPr>
              <a:t>PROGRAM NA PODPORU STAVEBNÍ OBNOVY A RESTAUROVÁNÍ KULTURNÍCH PAMÁTEK A PAMÁTEK MÍSTNÍHO VÝZNAMU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6600"/>
                </a:solidFill>
                <a:latin typeface="Arial Narrow"/>
              </a:rPr>
              <a:t>KUL03-22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cs-CZ" sz="2400" spc="-1" strike="noStrike">
                <a:solidFill>
                  <a:srgbClr val="002060"/>
                </a:solidFill>
                <a:latin typeface="Arial Narrow"/>
              </a:rPr>
              <a:t>                                                              </a:t>
            </a:r>
            <a:br>
              <a:rPr sz="2400"/>
            </a:br>
            <a:br>
              <a:rPr sz="1800"/>
            </a:b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6200" y="1267920"/>
            <a:ext cx="7991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6600"/>
                </a:solidFill>
                <a:latin typeface="Arial Narrow"/>
              </a:rPr>
              <a:t>uznatelné X neuznatelné výdaje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6200" y="1936800"/>
            <a:ext cx="820908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Nahradí-li stavebník na budově stávající střešní krytinu např. plechovou za keramické tašky, aniž by přitom zasahoval do konstrukce střechy, měnil její tvar a sklon, případně vestavěl nově střešní okna, </a:t>
            </a: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jde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o opravu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ři </a:t>
            </a: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výměně dřevěných oken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, při které nedojde ke změně rozměrů ani ke změně vrstev, </a:t>
            </a: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půjde o opravu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Dojde-li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ke změně rozměrů oken</a:t>
            </a: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 nebo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k výměně jednovrstvých oken </a:t>
            </a:r>
            <a:br>
              <a:rPr sz="1800"/>
            </a:b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za dvouvrstvé 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(např. z důvodu energetických úspor),</a:t>
            </a: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 tak se jedná o technické zhodnoc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 Narrow"/>
              </a:rPr>
              <a:t>Výměna oken lze z programu KUL03 podpořit pouze v případě, kdy původní okna nejdou prokazatelně opravit, přičemž nová okna musí být stejné konstrukce, profilace, materiálu 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 Narrow"/>
              </a:rPr>
              <a:t>a stejného rozměru, vč. stejného typu zasklení jako původní historická ok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Sanace vlhkého zdiva technologií impregnace (např. vháněním speciál. izolačních roztoků do zdiva, využití elektroosmózy nebo tlaku) v kombinaci s dodatečným prováděním vnějších izolací chráněných přizdívkou realizovanou po obnažení vnějšího zdiva na úroveň základové spáry –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neuznatelné výdaje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Obrázek 1" descr=""/>
          <p:cNvPicPr/>
          <p:nvPr/>
        </p:nvPicPr>
        <p:blipFill>
          <a:blip r:embed="rId1"/>
          <a:stretch/>
        </p:blipFill>
        <p:spPr>
          <a:xfrm>
            <a:off x="6424560" y="243000"/>
            <a:ext cx="22510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bdélník 1"/>
          <p:cNvSpPr/>
          <p:nvPr/>
        </p:nvSpPr>
        <p:spPr>
          <a:xfrm>
            <a:off x="484200" y="1271520"/>
            <a:ext cx="7920000" cy="53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  <a:ea typeface="Calibri"/>
              </a:rPr>
              <a:t>KRITÉRIA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Žádosti posuzuje hodnotitelská komise jmenovaná Radou Zlínského kraje, rozhoduje Rada Zlínského kraje, případně Zastupitelstvo Zlínského kr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odnocení kvality a přínosu projektu, kulturně historická hodnota předmětu obnovy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…. 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50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U obnovy kulturních památek a památek místního významu se posuzuje zejména památková hodnota předmětu obnovy, územní význam projektu, soulad projektu se zájmy památkové péče, stupeň ohrožení památky a soulad se schválenou Koncepcí účinnější podpory památkové péče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ve Zlínském kraj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Kredibilita žadatele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….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10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Tato rovina zahrnuje především kvalitu a důvěryhodnost žadatele, jeho dosavadní péči o památky. Tato rovina posouzení zahrnuje i hodnocení případného předchozího realizovaného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Efektivita rozpočtových výdajů 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40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V rámci tohoto kritéria jsou bonifikovány projekty s přiměřenými výdaji, rozpočet musí být srozumitelný a výdaje účelné, efektivní a hospodárné. Zohledňována je i schopnost žadatele zajistit vícezdrojové financování projektu.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1"/>
          <a:stretch/>
        </p:blipFill>
        <p:spPr>
          <a:xfrm>
            <a:off x="6540480" y="12600"/>
            <a:ext cx="18637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bdélník 1"/>
          <p:cNvSpPr/>
          <p:nvPr/>
        </p:nvSpPr>
        <p:spPr>
          <a:xfrm>
            <a:off x="468360" y="1413000"/>
            <a:ext cx="792144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  <a:ea typeface="Calibri"/>
              </a:rPr>
              <a:t>CO ROZHODNĚ NELZE PODPOŘI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Obnova není připravena k realizaci - závazné stanovisko obsahuje podmínky provedení průzkumu, zpracování projektu nebo restaurátorského zám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Neurčitost záměru obnovy věci - např. neuvedení konkrétních technologických postupů pr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ytváření replik - pokud neexistuje převážná část předmětu dotace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nebo když předmět dotace vůbec neexistuj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Rekonstrukce památky vycházející z dobové fotografie či archivních podklad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Úpravy veřejných prostranství (cesty, ulice, chodníky)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terénní úpravy, sadové a parkové úpravy zelen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1" descr=""/>
          <p:cNvPicPr/>
          <p:nvPr/>
        </p:nvPicPr>
        <p:blipFill>
          <a:blip r:embed="rId1"/>
          <a:stretch/>
        </p:blipFill>
        <p:spPr>
          <a:xfrm>
            <a:off x="6045120" y="4508640"/>
            <a:ext cx="2324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1520" y="1412640"/>
            <a:ext cx="799128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</a:rPr>
              <a:t>RADY NA ZÁVĚR  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60360" y="1844640"/>
            <a:ext cx="8352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Dotaci lze žádat i na památky místního významu, tj. 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nezapsané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 v Ústředním seznamu kulturních památek Č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Údaje o nemovitých kulturních památkách jsou veřejně dostupné na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 Narrow"/>
              </a:rPr>
              <a:t>www.pamatkovykatalog.cz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. V případě movitých kulturních památek, oprávněnému žadateli, informaci podá Národní památkový ústav, případně obecní úřad obce s rozšířenou působností nebo krajský úř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šechny povinné přílohy při předkládání Žádosti o dotaci musí být datované do 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04.02.2022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oložkový rozpočet musí obsahovat výkaz výměr k jednotlivým položkám a musí být v souladu s podmínkami závazného stanoviska orgánu státní památkové péče (u kulturních památe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Fyzická realizace projektu musí být ukončena nejpozději k 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18.11.2022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. Do tohoto data musí být datován i Zápis orgánu státní památkové péče o ukončení prací (u kulturních památek). Doporučujeme do smlouvy o dílo zahrnout sankce dodavateli při nedodržení stanovených termín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Monitorovací indikátory jsou závazným výstupem projektu, v případě jejich nenaplnění nemusí být dotace vyplacen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šechny projekty, na které je žádáno o dotaci, musí být zcela v souladu se zveřejněnou Výzvou a Pravidly. Po ukončení termínů pro podání žádosti nelze provádět jakékoliv změ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 souvislosti se změnou zákona o rozpočtových pravidlech územních rozpočtů, jsou vybrané právnické osoby povinny k žádosti o dotaci v rámci dotačních programů vyhlašovaných Zlínským krajem doložit úplný výpis z evidence skutečných majitelů. Více informací naleznete v článku na webu Zlínského kraje 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 Narrow"/>
              </a:rPr>
              <a:t>https://www.kr-zlinsky.cz/kraj-upozornuje-na-povinnost-dokladat-k-zadosti-o-dotaci-uplny-vypis-z-evidence-skutecnych-majitelu-aktuality-17488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Přehled aktuálních vyhlášených dotačních programů: 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4360" y="2060280"/>
            <a:ext cx="79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Arial"/>
              </a:rPr>
              <a:t>Ministerstvo kultury Č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Havarijní pro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závěrka: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1.01.2022 včetně / Národní památkový ústav Kroměří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rogram péče o vesnické památkové rezervace, vesnické památkové zóny a krajinné památkové zó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závěrka: 31.01.2022 / Národní památkový ústa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odpora obnovy kulturních památek prostřednictvím obcí s rozšířenou působ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závěrka: předpoklad konec února 2022 / Obec s rozšířenou působ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Přehled aktuálních vyhlášených dotačních programů: 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6880" y="1773000"/>
            <a:ext cx="799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Arial"/>
              </a:rPr>
              <a:t>Ministerstvo zemědělství Č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Dotace na údržbu a obnovu kulturních venkovských prvků pro rok 202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 žádostí od 01.02.2022 (v 8:00 hod) -18.02.202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pora údržby a obnovy stávajících památných staveb a objektů kulturně-historických hodnot (včetně kulturních památek) v extravilánu i intravilánu obcí do 2 000 obyvatel nebo v obci od 2 001 do 5 000 obyvatel, přičemž předmět dotace se nachází v místní části obce do 500 obyvat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á se o typ objektu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p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plička), křížová cesta, zvonička, boží muka, smírčí a jiné kříže, exteriérové sochy a sousoší, hřbitovy a hřbitovní z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Arial"/>
              </a:rPr>
              <a:t>Nadační fond Adopce památek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dpora kulturního dědictv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krétně péče o drobné památky v krajině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ředevším ty památky, kterým by v nejbližší době hrozil totální zánik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s://adopcepamatek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bdélník 1"/>
          <p:cNvSpPr/>
          <p:nvPr/>
        </p:nvSpPr>
        <p:spPr>
          <a:xfrm>
            <a:off x="468360" y="1773360"/>
            <a:ext cx="828036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</a:rPr>
              <a:t>DĚKUJI ZA POZOR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g. Alena Pospíšilová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LL.M. vedoucí Oddělení památkové pé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-mail: </a:t>
            </a:r>
            <a:r>
              <a:rPr b="0" lang="cs-CZ" sz="1800" spc="-1" strike="noStrike" u="sng">
                <a:solidFill>
                  <a:srgbClr val="00b0f0"/>
                </a:solidFill>
                <a:uFillTx/>
                <a:latin typeface="Arial Narrow"/>
                <a:ea typeface="Times New Roman"/>
              </a:rPr>
              <a:t>alena.pospisilova@kr-zlinsk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l. 577 043 6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Kontakt na administrátora Programu KUL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-mail: lenka.mazalova@kr-zlinsky.c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l. 577 043 6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162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rázek 3" descr=""/>
          <p:cNvPicPr/>
          <p:nvPr/>
        </p:nvPicPr>
        <p:blipFill>
          <a:blip r:embed="rId1"/>
          <a:stretch/>
        </p:blipFill>
        <p:spPr>
          <a:xfrm>
            <a:off x="5724360" y="3645000"/>
            <a:ext cx="2481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6600"/>
                </a:solidFill>
                <a:latin typeface="Arial Narrow"/>
              </a:rPr>
              <a:t>PROGRAM NA PODPORU STAVEBNÍ OBNOVY A RESTAUROVÁNÍ KULTURNÍCH PAMÁTEK A PAMÁTEK MÍSTNÍHO VÝZNAMU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 Narrow"/>
              </a:rPr>
              <a:t>KUL03-22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4360" y="3860640"/>
            <a:ext cx="7991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6600"/>
                </a:solidFill>
                <a:latin typeface="Arial Narrow"/>
                <a:ea typeface="Times New Roman"/>
              </a:rPr>
              <a:t>ZVEŘEJNĚNÍ VÝZV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21.12.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6600"/>
                </a:solidFill>
                <a:latin typeface="Arial Narrow"/>
                <a:ea typeface="Times New Roman"/>
              </a:rPr>
              <a:t>PŘÍJEM A REGISTRACE ŽÁDOST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Od 24.01.2022 - do 04.02.2022 do 12:00 h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5508720" y="3573360"/>
            <a:ext cx="26352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9912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https://www.kr-zlinsky.cz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51" name="Zástupný symbol pro obsah 3" descr=""/>
          <p:cNvPicPr/>
          <p:nvPr/>
        </p:nvPicPr>
        <p:blipFill>
          <a:blip r:embed="rId1"/>
          <a:srcRect l="8043" t="8112" r="50509" b="17488"/>
          <a:stretch/>
        </p:blipFill>
        <p:spPr>
          <a:xfrm>
            <a:off x="1116000" y="2133720"/>
            <a:ext cx="7228080" cy="4249440"/>
          </a:xfrm>
          <a:prstGeom prst="rect">
            <a:avLst/>
          </a:prstGeom>
          <a:ln w="0">
            <a:noFill/>
          </a:ln>
        </p:spPr>
      </p:pic>
      <p:sp>
        <p:nvSpPr>
          <p:cNvPr id="52" name="Šipka dolů 4"/>
          <p:cNvSpPr/>
          <p:nvPr/>
        </p:nvSpPr>
        <p:spPr>
          <a:xfrm rot="9398400">
            <a:off x="6473160" y="2691720"/>
            <a:ext cx="485640" cy="9795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Šipka dolů 5"/>
          <p:cNvSpPr/>
          <p:nvPr/>
        </p:nvSpPr>
        <p:spPr>
          <a:xfrm rot="7341000">
            <a:off x="4224960" y="37044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"/>
          <p:cNvSpPr/>
          <p:nvPr/>
        </p:nvSpPr>
        <p:spPr>
          <a:xfrm>
            <a:off x="324000" y="1413000"/>
            <a:ext cx="806436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Alokováno v rozpočtu ZK: 5.000.000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Neinvestiční dotace: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 náklady jsou spojené s údržbou a opravou majetku, nedochází ke zhodnocování majet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</a:rPr>
              <a:t>PODPOROVANÁ OPATŘE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. Stavební obnova a restaurování kulturních památek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zapsaných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 </a:t>
            </a:r>
            <a:r>
              <a:rPr b="0" i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Ústředním seznamu kulturních památek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. Stavební obnova a restaurovaní památek místního význa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 Narrow"/>
              </a:rPr>
              <a:t>Maximální míra dotace činí 50 % z celkových způsobilých výdajů projektu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; u obcí do 5.000 obyvatel maximálně 60 % z celkových způsobilých výdajů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elková výše poskytnuté dotace ze zdrojů Zlínského kraje a dalších zdrojů příjemce nesmí překročit 100 % celkových způsobilých výdajů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55640" y="3933720"/>
          <a:ext cx="7561440" cy="1096920"/>
        </p:xfrm>
        <a:graphic>
          <a:graphicData uri="http://schemas.openxmlformats.org/drawingml/2006/table">
            <a:tbl>
              <a:tblPr/>
              <a:tblGrid>
                <a:gridCol w="2873520"/>
                <a:gridCol w="2327040"/>
                <a:gridCol w="23608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mální výše v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aximální výše v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 Kulturní památ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 Památka místního význa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" name="AutoShape 2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236600"/>
            <a:ext cx="79916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</a:rPr>
              <a:t>ZPŮSOBILOST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 PROJEKTU 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4920" y="1700280"/>
            <a:ext cx="7991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Neexistuje žádné omezení týkající se celkových způsobilých výdajů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ojekt musí být realizován na území Zlínského kr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U movitých památek musí být trvalý pobyt vlastníka a zároveň trvalé umístění movité památky na území Zlínského kra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Březen 2022 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- RZK rozhodnutí o ne/poskytnutí dotace a schválení Smlouv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Květen 2022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 -  ZZK rozhodnutí o ne/poskytnutí dotace a schválení Smlouv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05.02.2022 - 18.11.2022 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- doba realizace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18.11.2022 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- nejzazší datum pro odevzdání Závěrečné zprávy s vyúčtováním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65000" y="3284640"/>
          <a:ext cx="7251840" cy="741240"/>
        </p:xfrm>
        <a:graphic>
          <a:graphicData uri="http://schemas.openxmlformats.org/drawingml/2006/table">
            <a:tbl>
              <a:tblPr/>
              <a:tblGrid>
                <a:gridCol w="2660760"/>
                <a:gridCol w="45910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ulturní památ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ximálně 1 projekt v jednom kalendářním ro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amátka místního význa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ximálně 1 projekt v jednom kalendářním ro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bdélník 2"/>
          <p:cNvSpPr/>
          <p:nvPr/>
        </p:nvSpPr>
        <p:spPr>
          <a:xfrm>
            <a:off x="324000" y="1290600"/>
            <a:ext cx="8064360" cy="52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  <a:ea typeface="Times New Roman"/>
              </a:rPr>
              <a:t>DOTACI LZE POSKYTN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yzickým nebo právnickým osobám, které jsou 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lastníkem či spoluvlastníkem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kulturní památky nebo památky místního významu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a území Zlínského kra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 případě 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poluvlastnictví více osob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podává Žádost pouze </a:t>
            </a: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jeden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e spoluvlastníků, přičemž musí být přiložen písemný souhlas všech spoluvlastníků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  <a:ea typeface="Times New Roman"/>
              </a:rPr>
              <a:t>DOTACI NELZE POSKYTN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litickým stranám a politickým hnutím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le zákona č. 424/1991 Sb. O sdružování v politických stranách a v politických hnutích, ve znění pozdějších předpis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říspěvkovým organizacím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le zákona č. 250/2000 Sb., O rozpočtových pravidlech územních rozpočtů, ve znění pozdějších předpisů, jejichž zřizovatelem je Zlínský kra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rganizačním složkám státu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zařízením státu majících obdobné postavení jako organizační složky státu, příspěvkovým organizacím zřízeným organizačními složkami státu a státním podnik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6227640" y="44280"/>
            <a:ext cx="19926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bdélník 2"/>
          <p:cNvSpPr/>
          <p:nvPr/>
        </p:nvSpPr>
        <p:spPr>
          <a:xfrm>
            <a:off x="395280" y="1379520"/>
            <a:ext cx="813744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  <a:ea typeface="Times New Roman"/>
              </a:rPr>
              <a:t>ZPŮSOBILÉ VÝDAJ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ýdaje, které mají přímou vazbu na realizaci projektu a přímo souvisí s účelem projektu. Jedná se o výdaje prokazatelně související s obnovou památky, tj. výdaj na práce zajišťující uchování souhrnné památkové hodnoty objektu (věci)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jako je oprava, restaurování apo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Aby mohly být výdaje považovány v kontextu projektu za způsobilé, musí bý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v souladu s českou legislativou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reálné a </a:t>
            </a:r>
            <a:r>
              <a:rPr b="0" lang="cs-CZ" sz="2000" spc="-1" strike="noStrike">
                <a:solidFill>
                  <a:srgbClr val="ff0000"/>
                </a:solidFill>
                <a:latin typeface="Arial Narrow"/>
              </a:rPr>
              <a:t>nemohou mít podobu paušálních částek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nezbytné pro uskutečnění projektu a musí vyhovovat zásadám zdravého finančního řízení, zvláště efektivnosti, přiměřenosti a hospodárn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vynaloženy během doby realizace projekt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skutečně vynaloženy, zachyceny v účetnictví příjemce dotace, prokazatelné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a podložené účetními dokla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2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730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rázek 2" descr=""/>
          <p:cNvPicPr/>
          <p:nvPr/>
        </p:nvPicPr>
        <p:blipFill>
          <a:blip r:embed="rId1"/>
          <a:stretch/>
        </p:blipFill>
        <p:spPr>
          <a:xfrm>
            <a:off x="6804000" y="4292640"/>
            <a:ext cx="1871640" cy="187308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1"/>
          <p:cNvSpPr/>
          <p:nvPr/>
        </p:nvSpPr>
        <p:spPr>
          <a:xfrm>
            <a:off x="324000" y="1255680"/>
            <a:ext cx="8424720" cy="66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  <a:ea typeface="Times New Roman"/>
              </a:rPr>
              <a:t>NEZPŮSOBILÉ VÝ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činnosti, které nemají povahu záchrany památky, její rehabilitaci a následnou revitalizaci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(např. půdní vestavby, přístavby, jiné nástavby apod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výdaje spojené s modernizací (např. zateplování, vytápění, elektroinstalace, rozvody vody, splašková kanalizace, plynofikace, vzduchotechnika, sanitární technika, výplně otvorů z plastu nebo typu EURO, izolační dvojskla a trojskla, protipožární okna, dveře a stěny, instalace zdravotechniky apod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elektroosmóza, sanační omítky, sanační injektáže a podřezání objektů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výdaje na předprojektovou a projektovou dokumentaci, restaurátorský záměr, restaurátorskou zprávu, stavebně historický, restaurátorský a archeologický průzk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čištění a úklid budov (např. podkroví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ovizorní úpravy objektů (např. provizorní zakrytí stře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účetně nedoložitelné výda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výdaje na publicitu Zlínského kra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onájem hygienického zařízení (TOI, TO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ořízení věci (majetek, materiál, atd.), jejichž doba použitelnosti je delší než 1 rok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5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bdélník 1"/>
          <p:cNvSpPr/>
          <p:nvPr/>
        </p:nvSpPr>
        <p:spPr>
          <a:xfrm>
            <a:off x="395280" y="1197000"/>
            <a:ext cx="8426520" cy="49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Arial Narrow"/>
                <a:ea typeface="Times New Roman"/>
              </a:rPr>
              <a:t>NEZPŮSOBILÉ VÝ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daň silniční, daň z nemovitých věcí, daň darovací, dědická, z nabytí nemovitých věcí apod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oplatek za skládku, odvoz suti na skládku, doprav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hromosvody (pokud nejsou součástí obnovy střešní krytiny), izolační střešní folie apod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otiradonová opatřen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výdaje na provozní náklady (např. cestovné, dopravné, revize, náklady za ubytování, koordinační činnost apod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oložka v rozpočtu: „rezerva“, vedlejší náklady, zařízení staveniště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lešení a stavební výtah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kopie sochařských děl a výdusk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řesuny suti a vybouraných hmo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stavební materiál, který nebude zabudován do stavby v roce, ve kterém má být dotace čerpána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Arial Narrow"/>
              <a:buChar char="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ředmětem podpory není úprava terénu (pokud nesouvisí přímo se stavbou) či obnova zele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9:59:38Z</dcterms:created>
  <dc:creator>zakutny</dc:creator>
  <dc:description/>
  <dc:language>en-US</dc:language>
  <cp:lastModifiedBy>Mazalová Lenka</cp:lastModifiedBy>
  <cp:lastPrinted>2018-10-04T06:36:15Z</cp:lastPrinted>
  <dcterms:modified xsi:type="dcterms:W3CDTF">2023-01-03T14:47:14Z</dcterms:modified>
  <cp:revision>285</cp:revision>
  <dc:subject/>
  <dc:title>Snímek 1</dc:title>
</cp:coreProperties>
</file>